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9ADFA-E654-412D-8766-B67E57799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C5689-D76F-4FEE-9C8D-0B7ADE3E7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42357-1AA7-44FF-9E9E-90EFD6BFB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C66E6-3872-4D7B-B948-1F58DA2FC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F99C7-5DEB-4B0D-AD55-E7585AA4C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47E34-B7A7-43D0-91F2-138D9729F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D1E19-C15E-4937-8AF2-C1FF3BF3C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DB037-7AED-42D0-8C35-B0F378DD6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CAEC6-FA33-43E5-9747-9BBC72CA2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97F54-1F38-4AEF-9D34-D126EC36E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F95DE-36FD-4BE7-9C79-D77FAAC04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CF083-E836-4502-971B-E8992A0F2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BB74F-457D-42A5-AEF8-C87DB5B8EF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hyperlink" Target="http://www.surgeoncommodore.co.uk/images/Fish-and-Chips.jpg" TargetMode="External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woodlands-junior.kent.sch.uk/customs/questions/" TargetMode="External"/><Relationship Id="rId2" Type="http://schemas.openxmlformats.org/officeDocument/2006/relationships/hyperlink" Target="http://www.woodlands-junior.kent.sch.uk/customs/questions/" TargetMode="Externa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09680" y="1371240"/>
            <a:ext cx="4648320" cy="146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eat Britai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3504960"/>
            <a:ext cx="64008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attie, Sydney, and Lay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Grade Geogra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Perio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andolph Scho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cccc"/>
                </a:solidFill>
                <a:latin typeface="Cooper Black"/>
              </a:rPr>
              <a:t>U.K.’s Basic Inf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oper Black"/>
              </a:rPr>
              <a:t>-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oper Black"/>
              </a:rPr>
              <a:t>population</a:t>
            </a:r>
            <a:r>
              <a:rPr b="0" lang="en-US" sz="3200" spc="-1" strike="noStrike">
                <a:solidFill>
                  <a:srgbClr val="000000"/>
                </a:solidFill>
                <a:latin typeface="Cooper Black"/>
              </a:rPr>
              <a:t> 47,112,000 peop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oper Black"/>
              </a:rPr>
              <a:t>-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oper Black"/>
              </a:rPr>
              <a:t>language</a:t>
            </a:r>
            <a:r>
              <a:rPr b="0" lang="en-US" sz="3200" spc="-1" strike="noStrike">
                <a:solidFill>
                  <a:srgbClr val="000000"/>
                </a:solidFill>
                <a:latin typeface="Cooper Black"/>
              </a:rPr>
              <a:t> English or Britis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ooper Black"/>
              </a:rPr>
              <a:t>-capital</a:t>
            </a:r>
            <a:r>
              <a:rPr b="0" lang="en-US" sz="3200" spc="-1" strike="noStrike">
                <a:solidFill>
                  <a:srgbClr val="000000"/>
                </a:solidFill>
                <a:latin typeface="Cooper Black"/>
              </a:rPr>
              <a:t> London, Engl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ooper Black"/>
              </a:rPr>
              <a:t>-Unit of Currency</a:t>
            </a:r>
            <a:r>
              <a:rPr b="0" lang="en-US" sz="3200" spc="-1" strike="noStrike">
                <a:solidFill>
                  <a:srgbClr val="000000"/>
                </a:solidFill>
                <a:latin typeface="Cooper Black"/>
              </a:rPr>
              <a:t> in pound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oper Black"/>
              </a:rPr>
              <a:t>-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oper Black"/>
              </a:rPr>
              <a:t>main exports</a:t>
            </a:r>
            <a:r>
              <a:rPr b="0" lang="en-US" sz="3200" spc="-1" strike="noStrike">
                <a:solidFill>
                  <a:srgbClr val="000000"/>
                </a:solidFill>
                <a:latin typeface="Cooper Black"/>
              </a:rPr>
              <a:t> manufacturing goods, machinery, fuels, chemicals, and transport equip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oper Black"/>
              </a:rPr>
              <a:t>-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oper Black"/>
              </a:rPr>
              <a:t>religion</a:t>
            </a:r>
            <a:r>
              <a:rPr b="0" lang="en-US" sz="3200" spc="-1" strike="noStrike">
                <a:solidFill>
                  <a:srgbClr val="000000"/>
                </a:solidFill>
                <a:latin typeface="Cooper Black"/>
              </a:rPr>
              <a:t> Christian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eorgia"/>
              </a:rPr>
              <a:t>London, Engl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holds the Elected House of Commons and the House of Lord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population is 6,775,00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has the great Buckingham Pala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located on the Thames River, southeast U.K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Located 80 miles from the Stonehe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952880" y="2514600"/>
            <a:ext cx="3533760" cy="2362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cc00"/>
                </a:solidFill>
                <a:latin typeface="Georgia"/>
              </a:rPr>
              <a:t>Physical Geography of Great Brita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Kristen IT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Kristen ITC"/>
              </a:rPr>
              <a:t>English Channel and the Thames Riv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Kristen IT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Kristen ITC"/>
              </a:rPr>
              <a:t>mostly lowlands and highlands but the highlands are usually in Scotlan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Kristen IT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Kristen ITC"/>
              </a:rPr>
              <a:t>has some mountains like the Pennines and are often called the “spine” or “backbone” of England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57600" cy="2590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102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898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898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898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ff"/>
                </a:solidFill>
                <a:latin typeface="Arial"/>
              </a:rPr>
              <a:t>England’s Cul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ir families have gotten smaller since 191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1911 there was usually 4 people in a single family, but in 1985 the average was 2.56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ir living standards have rise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1985 over 90 percent of homes had at least had 1 TV and a refrigerat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ff"/>
                </a:solidFill>
                <a:latin typeface="Lucida Console"/>
              </a:rPr>
              <a:t>Music, Sports, and Fo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Went from violins and Beethoven to rock and The Beat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They have soccer, tennis, football, cricket, badminton, horse racing, and rugb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Their food is usually based on beef, lamb, pork, chicken and fish usually served with potatoes and vegetab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380880" y="4114800"/>
            <a:ext cx="8229600" cy="19591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1066680" y="4114800"/>
            <a:ext cx="1827360" cy="19620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429000" y="4038480"/>
            <a:ext cx="2038320" cy="20383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See full size image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019920" y="4267080"/>
            <a:ext cx="2828880" cy="15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ff"/>
                </a:solidFill>
                <a:latin typeface="Tempus Sans ITC"/>
              </a:rPr>
              <a:t>Bibliograph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empus Sans ITC"/>
              </a:rPr>
              <a:t>Boo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580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empus Sans IT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empus Sans ITC"/>
              </a:rPr>
              <a:t>Inside Great Britain</a:t>
            </a:r>
            <a:r>
              <a:rPr b="1" lang="en-US" sz="2400" spc="-1" strike="noStrike">
                <a:solidFill>
                  <a:srgbClr val="000000"/>
                </a:solidFill>
                <a:latin typeface="Tempus Sans ITC"/>
              </a:rPr>
              <a:t>, Ian James, pgs 10,14-15, 19, and 30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580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empus Sans IT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empus Sans ITC"/>
              </a:rPr>
              <a:t>England Enchantment of the World</a:t>
            </a:r>
            <a:r>
              <a:rPr b="1" lang="en-US" sz="2400" spc="-1" strike="noStrike">
                <a:solidFill>
                  <a:srgbClr val="000000"/>
                </a:solidFill>
                <a:latin typeface="Tempus Sans ITC"/>
              </a:rPr>
              <a:t>, by Jean F. Blashfield, pg 16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empus Sans ITC"/>
              </a:rPr>
              <a:t>Websi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580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empus Sans IT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empus Sans ITC"/>
                <a:hlinkClick r:id="rId1"/>
              </a:rPr>
              <a:t>http://www.woodlands-junior.kent.sch.uk/customs/questions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Tempus Sans ITC"/>
                <a:hlinkClick r:id="rId2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5800" indent="-415800">
              <a:lnSpc>
                <a:spcPct val="90000"/>
              </a:lnSpc>
              <a:spcBef>
                <a:spcPts val="601"/>
              </a:spcBef>
              <a:buClr>
                <a:srgbClr val="009999"/>
              </a:buClr>
              <a:buFont typeface="Tempus Sans IT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9999"/>
                </a:solidFill>
                <a:uFillTx/>
                <a:latin typeface="Tempus Sans ITC"/>
              </a:rPr>
              <a:t>http://www.answers.com/topic/eng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768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4" dur="768" fill="hold"/>
                                        <p:tgtEl>
                                          <p:spTgt spid="6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9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96" dur="768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9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98" dur="768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9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880" y="2133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Ravie"/>
              </a:rPr>
              <a:t>The End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4T14:31:40Z</dcterms:created>
  <dc:creator>harrietcrosby</dc:creator>
  <dc:description/>
  <dc:language>en-US</dc:language>
  <cp:lastModifiedBy>harrietcrosby</cp:lastModifiedBy>
  <dcterms:modified xsi:type="dcterms:W3CDTF">2009-02-12T14:33:27Z</dcterms:modified>
  <cp:revision>6</cp:revision>
  <dc:subject/>
  <dc:title>Great Britain </dc:title>
</cp:coreProperties>
</file>